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5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6.jpeg" ContentType="image/jpeg"/>
  <Override PartName="/ppt/media/image33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8.jpeg" ContentType="image/jpeg"/>
  <Override PartName="/ppt/media/image31.jpeg" ContentType="image/jpeg"/>
  <Override PartName="/ppt/media/image2.png" ContentType="image/png"/>
  <Override PartName="/ppt/media/image34.jpeg" ContentType="image/jpeg"/>
  <Override PartName="/ppt/media/image7.jpeg" ContentType="image/jpeg"/>
  <Override PartName="/ppt/media/camera.wav" ContentType="audio/x-wav"/>
  <Override PartName="/ppt/media/image36.jpeg" ContentType="image/jpeg"/>
  <Override PartName="/ppt/media/image12.jpeg" ContentType="image/jpeg"/>
  <Override PartName="/ppt/media/image4.png" ContentType="image/png"/>
  <Override PartName="/ppt/media/image3.gif" ContentType="image/gif"/>
  <Override PartName="/ppt/media/image29.png" ContentType="image/pn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188C-B3F0-4DE0-83AC-5BD20D38D6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在实践中应配一段音乐，选取一段比较低沉的片断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502-9DA8-48AE-8822-AE907481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87E-0EF9-42D6-AB07-933FC3A0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722-EDCD-4952-A5BE-1E68A9C5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E4A-BD43-42AF-BAC1-B57AC323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709-0578-4261-ACA4-1D031956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DE7-35E4-442C-8608-F5869B1A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8138-6D82-4A81-AA3C-DF8BF662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25E-DF18-4AA9-8FE3-F01F03FC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8BA-2884-4071-99B4-C8F597E9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58F-4888-43F1-84F5-F5D9E9C4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82C-3530-4D5D-B138-0DB1EBBC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A85-90ED-4C51-BAE9-99F0C9B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0B94-37BF-41A5-8332-0048621629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" Target="slide41.xml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990720"/>
            <a:ext cx="806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晚年的冰心，系于她的人生经历、民族情感与父辈的仇恨，打算撰写一部记实性的长篇之作，书名就叫《甲午战争》。为此，老人多次提笔，“可是，她竟然一个字都没有留下！”不是因为老，因为病，“而是因为哭，因为大哭，因为一握起笔就禁不住老泪纵横地哭！哭得完全不能下笔，纸上惟有落下的热泪”……“此时的冰心，一边哭，一边说：‘气死我了！气死我了！真可恨！真可恨！’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《冰心的遗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5029200"/>
            <a:ext cx="774072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隶书"/>
              </a:rPr>
              <a:t>思考：一代文学大师冰心晚年的遗憾是什么？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5638680"/>
            <a:ext cx="431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为什么没有写成？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362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759120" y="6110280"/>
            <a:ext cx="22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陆政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0" t="0" r="0" b="36785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070000" y="1058760"/>
            <a:ext cx="3171960" cy="191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41720" y="2935440"/>
            <a:ext cx="339840" cy="26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8642160" cy="6337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0993400">
            <a:off x="4237200" y="1299960"/>
            <a:ext cx="1777680" cy="510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62640" y="1714680"/>
            <a:ext cx="911160" cy="965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13400" y="30891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台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46800" y="1793880"/>
            <a:ext cx="12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朝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13400" y="12891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满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75240" y="22255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52560" y="368460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亚洲乃至全世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81640" y="20779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日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209520"/>
            <a:ext cx="20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大陆政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0"/>
            <a:ext cx="3772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6480">
                  <a:solidFill>
                    <a:srgbClr val="66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二</a:t>
            </a:r>
            <a:r>
              <a:rPr b="1" lang="en-US" sz="5400" spc="1" strike="noStrike">
                <a:ln w="6480">
                  <a:solidFill>
                    <a:srgbClr val="66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.</a:t>
            </a:r>
            <a:r>
              <a:rPr b="1" lang="zh-CN" sz="5400" spc="1" strike="noStrike">
                <a:ln w="6480">
                  <a:solidFill>
                    <a:srgbClr val="66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阴云密布</a:t>
            </a:r>
            <a:endParaRPr b="1" lang="en-US" sz="5400" spc="1" strike="noStrike">
              <a:ln w="6480">
                <a:solidFill>
                  <a:srgbClr val="66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80880" y="1371600"/>
            <a:ext cx="2057400" cy="118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380880" y="3429000"/>
            <a:ext cx="1981440" cy="1320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070880" y="14428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节省开支，扩充军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6840" y="37558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挪用军费，建颐和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1371600"/>
            <a:ext cx="8153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、甲午中日战争过程中的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大战役有哪些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、甲午中日战争的结果是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2280"/>
            <a:ext cx="3772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6480">
                  <a:solidFill>
                    <a:srgbClr val="66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三</a:t>
            </a:r>
            <a:r>
              <a:rPr b="1" lang="en-US" sz="5400" spc="1" strike="noStrike">
                <a:ln w="6480">
                  <a:solidFill>
                    <a:srgbClr val="66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.</a:t>
            </a:r>
            <a:r>
              <a:rPr b="1" lang="zh-CN" sz="5400" spc="1" strike="noStrike">
                <a:ln w="6480">
                  <a:solidFill>
                    <a:srgbClr val="66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狼烟突起</a:t>
            </a:r>
            <a:endParaRPr b="1" lang="en-US" sz="5400" spc="1" strike="noStrike">
              <a:ln w="6480">
                <a:solidFill>
                  <a:srgbClr val="66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rcRect l="17359" t="22313" r="17540" b="14094"/>
          <a:stretch/>
        </p:blipFill>
        <p:spPr>
          <a:xfrm>
            <a:off x="4500720" y="414972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943600" y="3505320"/>
            <a:ext cx="320040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144792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朝鲜丰岛，日本不宣而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90920"/>
            <a:ext cx="813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黄海大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致远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管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邓世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壮烈殉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384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辽东战役，日军制造旅顺大屠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25780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威海卫战役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北洋舰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全军覆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093080" y="620640"/>
            <a:ext cx="1535040" cy="223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086600" y="4800600"/>
            <a:ext cx="15112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致远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2637000"/>
            <a:ext cx="15112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邓世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228600"/>
            <a:ext cx="2286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战争回眸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走近黄海，感受悲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0000" y="1197000"/>
            <a:ext cx="7236000" cy="4221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6172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生在历史上的什么事件中？给你留下最深印象的是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77689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  <p:seq>
              <p:cTn id="17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8040" y="301680"/>
            <a:ext cx="7851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041840" y="555480"/>
            <a:ext cx="6668280" cy="5365800"/>
            <a:chOff x="1041840" y="555480"/>
            <a:chExt cx="6668280" cy="536580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2858040" y="555480"/>
              <a:ext cx="3710880" cy="53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041840" y="1477800"/>
              <a:ext cx="1399320" cy="41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Verdana"/>
                  <a:ea typeface="黑体"/>
                </a:rPr>
                <a:t>此日漫挥天下泪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32480" y="1575360"/>
              <a:ext cx="1277640" cy="34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Verdana"/>
                  <a:ea typeface="黑体"/>
                </a:rPr>
                <a:t>有公足壮海军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00600" y="3809880"/>
            <a:ext cx="4114800" cy="271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4191120" cy="2894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00600" y="380880"/>
            <a:ext cx="4038480" cy="312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04920" y="380880"/>
            <a:ext cx="4267080" cy="31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762120" y="533520"/>
            <a:ext cx="7924320" cy="5341680"/>
            <a:chOff x="762120" y="533520"/>
            <a:chExt cx="7924320" cy="534168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762120" y="533520"/>
              <a:ext cx="7924320" cy="53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502080" y="4722840"/>
              <a:ext cx="5056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6560" y="5154480"/>
              <a:ext cx="76798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440" y="5730840"/>
              <a:ext cx="54738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物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590920"/>
            <a:ext cx="44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89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36576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81120" y="3124080"/>
            <a:ext cx="1887480" cy="19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国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李鸿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日本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伊藤博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27880" y="121932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马关条约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16360" y="836640"/>
            <a:ext cx="4191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077320" cy="5754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81080" y="60199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日本下关春帆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22766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第</a:t>
            </a:r>
            <a:r>
              <a:rPr b="0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课 甲午中日战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914400" y="1371600"/>
            <a:ext cx="3123720" cy="4038120"/>
            <a:chOff x="914400" y="1371600"/>
            <a:chExt cx="3123720" cy="4038120"/>
          </a:xfrm>
        </p:grpSpPr>
        <p:sp>
          <p:nvSpPr>
            <p:cNvPr id="130" name=""/>
            <p:cNvSpPr/>
            <p:nvPr/>
          </p:nvSpPr>
          <p:spPr>
            <a:xfrm>
              <a:off x="914400" y="1371600"/>
              <a:ext cx="3123720" cy="403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1151280" y="1634760"/>
              <a:ext cx="2649240" cy="351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5257800" y="1371600"/>
            <a:ext cx="3352320" cy="4038120"/>
            <a:chOff x="5257800" y="1371600"/>
            <a:chExt cx="3352320" cy="4038120"/>
          </a:xfrm>
        </p:grpSpPr>
        <p:sp>
          <p:nvSpPr>
            <p:cNvPr id="133" name=""/>
            <p:cNvSpPr/>
            <p:nvPr/>
          </p:nvSpPr>
          <p:spPr>
            <a:xfrm>
              <a:off x="5257800" y="1371600"/>
              <a:ext cx="3352320" cy="403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5582160" y="1650600"/>
              <a:ext cx="2663280" cy="344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1600200" y="56386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李鸿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87120" y="5638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伊藤博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马关条约》内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清政府割辽东半岛、台湾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澎湖列岛给日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赔偿日本军费白银二亿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允许日本在中国开设工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④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增辟通商口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457200" y="838080"/>
          <a:ext cx="8229600" cy="5289840"/>
        </p:xfrm>
        <a:graphic>
          <a:graphicData uri="http://schemas.openxmlformats.org/drawingml/2006/table">
            <a:tbl>
              <a:tblPr/>
              <a:tblGrid>
                <a:gridCol w="1143000"/>
                <a:gridCol w="2286000"/>
                <a:gridCol w="1195560"/>
                <a:gridCol w="1881000"/>
                <a:gridCol w="172404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割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赔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开放口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开设工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割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香港岛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给英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东南沿海五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割辽东半岛、台湾及附属岛屿、澎湖列岛给日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亿两白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沙市、重庆、苏州和杭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长江上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766080" y="1676520"/>
            <a:ext cx="60696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南京条约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6080" y="3886200"/>
            <a:ext cx="60696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《马关条约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213372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银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009920" y="1981080"/>
            <a:ext cx="1584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886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允许开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品运销中国内地免收内地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4360" y="115920"/>
            <a:ext cx="194472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比一比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124680"/>
            <a:ext cx="9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与《南京条约》相比，《马关条约》进一步给中国造成了哪些危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485120" y="6491160"/>
            <a:ext cx="574560" cy="35244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301920" y="17701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汉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4200" y="3787920"/>
            <a:ext cx="324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22920" y="3787920"/>
            <a:ext cx="324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27600" y="3787920"/>
            <a:ext cx="1368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9080" y="4589640"/>
            <a:ext cx="13968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996640" y="1419120"/>
            <a:ext cx="5355360" cy="3752640"/>
            <a:chOff x="2996640" y="1419120"/>
            <a:chExt cx="5355360" cy="3752640"/>
          </a:xfrm>
        </p:grpSpPr>
        <p:sp>
          <p:nvSpPr>
            <p:cNvPr id="155" name=""/>
            <p:cNvSpPr/>
            <p:nvPr/>
          </p:nvSpPr>
          <p:spPr>
            <a:xfrm>
              <a:off x="7561800" y="141912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Verdana"/>
                </a:rPr>
                <a:t>上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55160" y="222012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Verdana"/>
                </a:rPr>
                <a:t>宁波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63480" y="301932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Verdana"/>
                </a:rPr>
                <a:t>福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12880" y="388620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Verdana"/>
                </a:rPr>
                <a:t>厦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99160" y="41518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Verdana"/>
                </a:rPr>
                <a:t>广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6944760" y="1486440"/>
              <a:ext cx="544680" cy="4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6060960" y="3484800"/>
              <a:ext cx="544320" cy="4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5379840" y="4352040"/>
              <a:ext cx="544320" cy="4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6"/>
            <a:stretch/>
          </p:blipFill>
          <p:spPr>
            <a:xfrm>
              <a:off x="2996640" y="4685400"/>
              <a:ext cx="544680" cy="4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7"/>
            <a:stretch/>
          </p:blipFill>
          <p:spPr>
            <a:xfrm>
              <a:off x="6740640" y="2286000"/>
              <a:ext cx="544680" cy="48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25560" y="1609560"/>
            <a:ext cx="9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重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96800" y="919080"/>
            <a:ext cx="5856120" cy="2067120"/>
            <a:chOff x="496800" y="919080"/>
            <a:chExt cx="5856120" cy="2067120"/>
          </a:xfrm>
        </p:grpSpPr>
        <p:sp>
          <p:nvSpPr>
            <p:cNvPr id="167" name=""/>
            <p:cNvSpPr/>
            <p:nvPr/>
          </p:nvSpPr>
          <p:spPr>
            <a:xfrm>
              <a:off x="2334240" y="2060280"/>
              <a:ext cx="8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沙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8"/>
            <a:stretch/>
          </p:blipFill>
          <p:spPr>
            <a:xfrm>
              <a:off x="496800" y="2060280"/>
              <a:ext cx="544320" cy="56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9"/>
            <a:stretch/>
          </p:blipFill>
          <p:spPr>
            <a:xfrm>
              <a:off x="2469240" y="2417400"/>
              <a:ext cx="544320" cy="56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0"/>
            <a:stretch/>
          </p:blipFill>
          <p:spPr>
            <a:xfrm>
              <a:off x="5804280" y="919080"/>
              <a:ext cx="544320" cy="5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5745600" y="12758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Verdana"/>
                </a:rPr>
                <a:t>苏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463720" y="1632600"/>
              <a:ext cx="625320" cy="856800"/>
              <a:chOff x="5463720" y="1632600"/>
              <a:chExt cx="625320" cy="85680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463720" y="1632600"/>
                <a:ext cx="544320" cy="56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5481720" y="196884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Verdana"/>
                  </a:rPr>
                  <a:t>杭州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891560" y="5959440"/>
            <a:ext cx="272880" cy="266760"/>
          </a:xfrm>
          <a:custGeom>
            <a:avLst/>
            <a:gdLst>
              <a:gd name="textAreaLeft" fmla="*/ 17280 w 272880"/>
              <a:gd name="textAreaRight" fmla="*/ 255600 w 272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22095" h="21600">
                <a:moveTo>
                  <a:pt x="0" y="0"/>
                </a:moveTo>
                <a:lnTo>
                  <a:pt x="22095" y="0"/>
                </a:lnTo>
                <a:lnTo>
                  <a:pt x="22095" y="21600"/>
                </a:lnTo>
                <a:lnTo>
                  <a:pt x="0" y="21600"/>
                </a:lnTo>
                <a:close/>
              </a:path>
              <a:path fill="lightenLess" w="22095" h="21600">
                <a:moveTo>
                  <a:pt x="0" y="0"/>
                </a:moveTo>
                <a:lnTo>
                  <a:pt x="22095" y="0"/>
                </a:lnTo>
                <a:lnTo>
                  <a:pt x="20695" y="1400"/>
                </a:lnTo>
                <a:lnTo>
                  <a:pt x="1400" y="1400"/>
                </a:lnTo>
                <a:close/>
              </a:path>
              <a:path fill="darken" w="22095" h="21600">
                <a:moveTo>
                  <a:pt x="22095" y="0"/>
                </a:moveTo>
                <a:lnTo>
                  <a:pt x="22095" y="21600"/>
                </a:lnTo>
                <a:lnTo>
                  <a:pt x="20695" y="20200"/>
                </a:lnTo>
                <a:lnTo>
                  <a:pt x="20695" y="1400"/>
                </a:lnTo>
                <a:close/>
              </a:path>
              <a:path fill="darkenLess" w="22095" h="21600">
                <a:moveTo>
                  <a:pt x="22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95" y="20200"/>
                </a:lnTo>
                <a:close/>
              </a:path>
              <a:path fill="lighten" w="22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95" h="21600">
                <a:moveTo>
                  <a:pt x="4041" y="10800"/>
                </a:moveTo>
                <a:lnTo>
                  <a:pt x="18054" y="3794"/>
                </a:lnTo>
                <a:lnTo>
                  <a:pt x="180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457200" y="838080"/>
          <a:ext cx="8229600" cy="5289840"/>
        </p:xfrm>
        <a:graphic>
          <a:graphicData uri="http://schemas.openxmlformats.org/drawingml/2006/table">
            <a:tbl>
              <a:tblPr/>
              <a:tblGrid>
                <a:gridCol w="1143000"/>
                <a:gridCol w="2286000"/>
                <a:gridCol w="1195560"/>
                <a:gridCol w="1881000"/>
                <a:gridCol w="172404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割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赔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开放口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开设工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割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香港岛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给英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东南沿海五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割辽东半岛、台湾及附属岛屿、澎湖列岛给日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亿两白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沙市、重庆、苏州和杭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长江上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766080" y="1676520"/>
            <a:ext cx="60696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南京条约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080" y="3886200"/>
            <a:ext cx="60696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《马关条约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213372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银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009920" y="1981080"/>
            <a:ext cx="1584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3886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允许开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品运销中国内地免收内地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4360" y="115920"/>
            <a:ext cx="194472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比一比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6124680"/>
            <a:ext cx="9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与《南京条约》相比，《马关条约》进一步给中国造成了哪些危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360" y="1060560"/>
            <a:ext cx="8675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《马关条约》与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《南京条约》相比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条约相比有什么不同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42920" y="44280"/>
            <a:ext cx="61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思考讨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2701800"/>
            <a:ext cx="80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①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割地有什么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②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赔款有什么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③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开放口岸有什么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④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允许开工厂反映了什么问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1158840"/>
            <a:ext cx="6864480" cy="51195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62120" y="304920"/>
            <a:ext cx="68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这会给中国带来什么危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4200" y="25304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割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增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89320" y="2430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破坏主权，刺激瓜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4200" y="35211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赔款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4200" y="4511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开口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深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4200" y="5425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设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新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89320" y="3438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加重负担，控制经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95440" y="4435560"/>
            <a:ext cx="4648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侵略势力，深入内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89320" y="53830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加深掠夺，阻碍民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0680" y="1487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内  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75120" y="146376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危        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61320" y="3521160"/>
            <a:ext cx="657000" cy="457200"/>
          </a:xfrm>
          <a:prstGeom prst="rightArrow">
            <a:avLst>
              <a:gd name="adj1" fmla="val 50000"/>
              <a:gd name="adj2" fmla="val 3592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2711520"/>
            <a:ext cx="154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大大加深中国半殖民地化程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61520" y="6122880"/>
            <a:ext cx="533160" cy="522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6019920"/>
            <a:ext cx="360036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商品输出→资本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2280" y="137160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对日本的影响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35812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对其他帝国主义国家的影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1981080"/>
            <a:ext cx="762012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促进了资本主义迅速发展，成为军国主义强国，增强了侵略扩张实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4267080"/>
            <a:ext cx="806436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刺激列强瓜分中国的野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帝国主义列强在远东的争夺更加激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523880" y="304920"/>
            <a:ext cx="3672000" cy="1044000"/>
            <a:chOff x="1523880" y="304920"/>
            <a:chExt cx="3672000" cy="1044000"/>
          </a:xfrm>
        </p:grpSpPr>
        <p:sp>
          <p:nvSpPr>
            <p:cNvPr id="208" name=""/>
            <p:cNvSpPr/>
            <p:nvPr/>
          </p:nvSpPr>
          <p:spPr>
            <a:xfrm>
              <a:off x="1523880" y="304920"/>
              <a:ext cx="2448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11160" y="952200"/>
              <a:ext cx="3384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484360" y="765000"/>
            <a:ext cx="42912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752480" y="594360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990000"/>
                  </a:solidFill>
                  <a:miter/>
                </a:ln>
                <a:solidFill>
                  <a:srgbClr val="99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楷体"/>
              </a:rPr>
              <a:t>天难度，地难量，这才是帝王度量。</a:t>
            </a:r>
            <a:endParaRPr b="1" lang="en-US" sz="1800" spc="1" strike="noStrike">
              <a:ln w="12600">
                <a:solidFill>
                  <a:srgbClr val="990000"/>
                </a:solidFill>
                <a:miter/>
              </a:ln>
              <a:solidFill>
                <a:srgbClr val="99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828800" y="175248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990000"/>
                  </a:solidFill>
                  <a:miter/>
                </a:ln>
                <a:solidFill>
                  <a:srgbClr val="99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楷体"/>
              </a:rPr>
              <a:t>内无相，外无将，不得已玉帛相将。</a:t>
            </a:r>
            <a:endParaRPr b="1" lang="en-US" sz="1800" spc="1" strike="noStrike">
              <a:ln w="12600">
                <a:solidFill>
                  <a:srgbClr val="990000"/>
                </a:solidFill>
                <a:miter/>
              </a:ln>
              <a:solidFill>
                <a:srgbClr val="99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586728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990099"/>
                  </a:solidFill>
                  <a:miter/>
                </a:ln>
                <a:solidFill>
                  <a:srgbClr val="99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李鸿章：</a:t>
            </a:r>
            <a:endParaRPr b="0" lang="en-US" sz="1800" spc="1" strike="noStrike">
              <a:ln w="12600">
                <a:solidFill>
                  <a:srgbClr val="990099"/>
                </a:solidFill>
                <a:miter/>
              </a:ln>
              <a:solidFill>
                <a:srgbClr val="99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75248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990099"/>
                  </a:solidFill>
                  <a:miter/>
                </a:ln>
                <a:solidFill>
                  <a:srgbClr val="99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伊藤博文：</a:t>
            </a:r>
            <a:endParaRPr b="0" lang="en-US" sz="1800" spc="1" strike="noStrike">
              <a:ln w="12600">
                <a:solidFill>
                  <a:srgbClr val="990099"/>
                </a:solidFill>
                <a:miter/>
              </a:ln>
              <a:solidFill>
                <a:srgbClr val="99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8077320" cy="3276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16" name=""/>
          <p:cNvSpPr txBox="1"/>
          <p:nvPr/>
        </p:nvSpPr>
        <p:spPr>
          <a:xfrm>
            <a:off x="304920" y="15228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以史为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52280"/>
            <a:ext cx="2438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6480">
                  <a:solidFill>
                    <a:srgbClr val="66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学习目标</a:t>
            </a:r>
            <a:endParaRPr b="1" lang="en-US" sz="4800" spc="1" strike="noStrike">
              <a:ln w="6480">
                <a:solidFill>
                  <a:srgbClr val="66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990720"/>
            <a:ext cx="88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使学生了解甲午中日战争的概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本发动战争的目的；为什么叫甲午中日战     争；黄海海战；旅顺陷落；威海卫溃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掌握中日《马关条约》的主要内容及其影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使学生认识：甲午中日战争是日本帝国主义为吞并朝鲜、入侵中国而蓄意挑起的侵略战争。在战斗中，以邓世昌等为代表的爱国官兵进行了英勇顽强的反侵略斗争，他们是甲午战争的民族英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895480" y="380880"/>
            <a:ext cx="4648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普天同庆，万寿无疆；</a:t>
            </a:r>
            <a:endParaRPr b="0" lang="en-US" sz="1800" spc="1" strike="noStrike">
              <a:ln w="1260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971800" y="1600200"/>
            <a:ext cx="4572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三军败绩，割地求和。</a:t>
            </a:r>
            <a:endParaRPr b="0" lang="en-US" sz="1800" spc="1" strike="noStrike">
              <a:ln w="1260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533520"/>
            <a:ext cx="2209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请看对联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62120" y="2590920"/>
            <a:ext cx="1904760" cy="1142640"/>
            <a:chOff x="762120" y="2590920"/>
            <a:chExt cx="1904760" cy="1142640"/>
          </a:xfrm>
        </p:grpSpPr>
        <p:sp>
          <p:nvSpPr>
            <p:cNvPr id="221" name=""/>
            <p:cNvSpPr/>
            <p:nvPr/>
          </p:nvSpPr>
          <p:spPr>
            <a:xfrm>
              <a:off x="762120" y="2590920"/>
              <a:ext cx="1904760" cy="1142640"/>
            </a:xfrm>
            <a:prstGeom prst="cloudCallout">
              <a:avLst>
                <a:gd name="adj1" fmla="val -60083"/>
                <a:gd name="adj2" fmla="val 146180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1066680" y="3066840"/>
              <a:ext cx="1523520" cy="571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华文行楷"/>
                </a:rPr>
                <a:t>想一想：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  <a:ea typeface="华文行楷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3048120" y="2819520"/>
            <a:ext cx="4876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黑体"/>
              </a:rPr>
              <a:t>清政府为什么战败？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5530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Arial"/>
              </a:rPr>
              <a:t>中国战败的原因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295280"/>
            <a:ext cx="75610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清政府的腐败无能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根本原因、主要原因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由于李鸿章的“避战自保”、妥协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退让而贻误战机，导致中国军队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的一败再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中国军队装备落后，军备不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部分官兵临阵逃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5486400"/>
            <a:ext cx="55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如此腐败，此战岂能不败？失败了就要“玉帛相将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92360" y="15573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1844640"/>
            <a:ext cx="431640" cy="3529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92360" y="3284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经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65440" y="4997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7680" y="2637000"/>
            <a:ext cx="12556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午中日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94-18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56680" y="15415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日本为了征服朝鲜、侵略中国称霸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256536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海大战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邓世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22800" y="487692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马关条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》签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11680" y="54864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大大加深中国半殖民地化程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708280"/>
            <a:ext cx="144360" cy="180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59280" y="3332160"/>
            <a:ext cx="59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辽东半岛战役     旅顺大屠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27480" y="3816360"/>
            <a:ext cx="340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32000" y="4149720"/>
            <a:ext cx="57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威海卫战役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北洋舰队全军覆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304920"/>
            <a:ext cx="289548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隶书"/>
              </a:rPr>
              <a:t>铭记历史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隶书"/>
              <a:ea typeface="华文隶书"/>
            </a:endParaRPr>
          </a:p>
        </p:txBody>
      </p:sp>
      <p:sp>
        <p:nvSpPr>
          <p:cNvPr id="241" name=""/>
          <p:cNvSpPr/>
          <p:nvPr/>
        </p:nvSpPr>
        <p:spPr>
          <a:xfrm>
            <a:off x="555120" y="6095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战争的性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74800" y="62164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日本挑起的侵略战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295280"/>
            <a:ext cx="8610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挽联“此日漫挥天下泪，有公足壮海军威”，哀悼的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邓世昌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林则徐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关天培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左宗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某同学在表演课本剧，只见他高呼“开足马力，撞沉吉野”。你认为这一场景出现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丰岛海战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平壤战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黄海海战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威海卫战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午中日战争后，山城重庆突然涌入了许多外国商人，这是因为签订了                 （       ）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《南京条约》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《北京条约》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《中法新约》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《马关条约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68360" y="4894200"/>
            <a:ext cx="2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67652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  <a:ea typeface="方正仿宋简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3429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  <a:ea typeface="方正仿宋简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04000" y="532620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0880" y="152280"/>
            <a:ext cx="3810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宋体"/>
              </a:rPr>
              <a:t>战场演练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宋体"/>
              <a:ea typeface="华文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某剧组拍摄《马关条约》签订后的中国社会场景，你认为符合史实的是                 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割占香港岛　　　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开放广州、厦门、福州、宁波、上海为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商口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允许日本在通商口岸设立工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划定北京东交民巷为使馆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06080" y="220968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甲午中日战争后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清政府被迫允许列强在通商口岸开设工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改革开放后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国政府又主动招商引资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鼓励外商来华投资办厂。试述这二者有何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304920"/>
            <a:ext cx="339120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谈古论今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二者的不同主要在于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背景不同：前者是在丧失主权的情况下，被迫开放的；后者是在坚持独立自主的前提下进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影响不同：前者便利了列强的经济侵略，严重阻碍了中国民族资本主义的发展；后者有利于学习西方的先进技术和管理经验，扩大就业，吸引外资，加快我国现代化建设步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2349360"/>
            <a:ext cx="741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通过今天的学习，你最大的感受是什么？是哭，是恨，是气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8360" y="692280"/>
            <a:ext cx="359892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反思…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059280" cy="2435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3132000" cy="2068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191120" y="76212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威海卫保卫战中被日军鱼雷艇击中搁浅的“定远号”在最后沉没后，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8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被日本民间打捞出水，其舵轮被英国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Thomas Glover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得，竟被改装成咖啡桌，放置于日本长崎南山手町临海的他的住宅内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5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该住宅由三菱会社移交给长崎市政府，连同其附近一片区域，辟作哥拉巴公园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定远舰舵轮至今仍长年在此展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472428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日本人将镇远舰拆解后，所遗部分船锚、锚链、炮弹等被陈列于日本东京上野公园，直到抗战胜利后才由海关缉私船“飞星号”、招商局轮船“隆顺号”运回，现藏于北京军事博物馆。但还有部分遗物仍遗留在日本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现陈列于日本粟岛海员学校的镇远舰船钟。</a:t>
            </a:r>
            <a:r>
              <a:rPr b="1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14400" y="3049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76520" y="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历史，留给了我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68120" y="353880"/>
            <a:ext cx="4388040" cy="52358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42920" y="5961240"/>
            <a:ext cx="48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刘公岛甲午战争博物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5097600" y="353880"/>
            <a:ext cx="3749400" cy="5235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074640" y="589932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小朋友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抚摸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北样海军的鱼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18360" y="838080"/>
            <a:ext cx="33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快速阅读课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16-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，并思考以下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37160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甲午中日战争爆发的原因是什么？起止时间？为何称为“甲午中日战争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甲午中日战争过程中的重大战役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甲午中日战争的结果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甲午中日战争签订的条约是？内容和影响分别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2280"/>
            <a:ext cx="2438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6480">
                  <a:solidFill>
                    <a:srgbClr val="66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自学指导</a:t>
            </a:r>
            <a:endParaRPr b="1" lang="en-US" sz="4800" spc="1" strike="noStrike">
              <a:ln w="6480">
                <a:solidFill>
                  <a:srgbClr val="66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rcRect l="17359" t="22313" r="17540" b="14094"/>
          <a:stretch/>
        </p:blipFill>
        <p:spPr>
          <a:xfrm>
            <a:off x="5257800" y="4800600"/>
            <a:ext cx="3059280" cy="16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170800" y="4572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甲午战争给我们留下什么样的反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228600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落后就要挨打，只有提高综合国力，才能立于世界民族之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4267080"/>
            <a:ext cx="75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勿忘国耻，奋发图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71640" y="508464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981080" y="241200"/>
            <a:ext cx="5334120" cy="58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《甲午风云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甲午风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是一页沉重的历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记载着一个悲壮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铁甲与热血铸造着民族铮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海与长夜激荡着忠魂浩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历史不会忘记海战风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华民族将记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8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 rot="5400000">
            <a:off x="-609480" y="3886200"/>
            <a:ext cx="312408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勿忘国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 rot="5400000">
            <a:off x="6172200" y="1600200"/>
            <a:ext cx="327672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奋发图强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春愁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     </a:t>
            </a: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春愁难遣强看山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　　往事惊心泪欲潸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　　四百万人同一哭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　　去年今日割台湾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丘逢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8390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一、大国崛起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二、阴云密布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三、狼烟突起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四、城下之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81280" y="60948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6480">
                  <a:solidFill>
                    <a:srgbClr val="66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甲午风云</a:t>
            </a:r>
            <a:endParaRPr b="1" lang="en-US" sz="5400" spc="1" strike="noStrike">
              <a:ln w="6480">
                <a:solidFill>
                  <a:srgbClr val="66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19810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甲午中日战争爆发的原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起止时间？为何称为“甲午中日战争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17359" t="22313" r="17540" b="14094"/>
          <a:stretch/>
        </p:blipFill>
        <p:spPr>
          <a:xfrm>
            <a:off x="2987640" y="3141720"/>
            <a:ext cx="4495680" cy="3200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838080" y="304920"/>
            <a:ext cx="4610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6480">
                  <a:solidFill>
                    <a:srgbClr val="66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一</a:t>
            </a:r>
            <a:r>
              <a:rPr b="1" lang="en-US" sz="6600" spc="1" strike="noStrike">
                <a:ln w="6480">
                  <a:solidFill>
                    <a:srgbClr val="66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.</a:t>
            </a:r>
            <a:r>
              <a:rPr b="1" lang="zh-CN" sz="6600" spc="1" strike="noStrike">
                <a:ln w="6480">
                  <a:solidFill>
                    <a:srgbClr val="66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大国崛起</a:t>
            </a:r>
            <a:endParaRPr b="1" lang="en-US" sz="6600" spc="1" strike="noStrike">
              <a:ln w="6480">
                <a:solidFill>
                  <a:srgbClr val="66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5240" y="11448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6840" y="8380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战前的清政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1522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02040" y="194760"/>
            <a:ext cx="551160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0066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</a:t>
            </a:r>
            <a:r>
              <a:rPr b="1" lang="zh-CN" sz="2000" spc="-1" strike="noStrike">
                <a:solidFill>
                  <a:srgbClr val="009999"/>
                </a:solidFill>
                <a:latin typeface="黑体"/>
                <a:ea typeface="黑体"/>
              </a:rPr>
              <a:t>明治维新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而渐趋富强的日本，利用强盛的国力，逐步废除与西方列强签订的不平等条约，收回国家主权，摆脱了沦为殖民地的危机；而后随着经济实力的快速提升，军事力量也快速强化，分别于</a:t>
            </a:r>
            <a:r>
              <a:rPr b="1" lang="zh-CN" sz="2000" spc="-1" strike="noStrike">
                <a:solidFill>
                  <a:srgbClr val="009999"/>
                </a:solidFill>
                <a:latin typeface="黑体"/>
                <a:ea typeface="黑体"/>
              </a:rPr>
              <a:t>甲午中日战争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与日俄战争中击败昔日强盛的两个大国—大清帝国与沙皇俄国，受到西方列强的注意，成为称雄一时的亚洲强国。</a:t>
            </a:r>
            <a:r>
              <a:rPr b="1" lang="zh-CN" sz="20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5520" y="165240"/>
            <a:ext cx="2708280" cy="2869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4400" y="2692440"/>
            <a:ext cx="15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ahoma"/>
                <a:ea typeface="华文新魏"/>
              </a:rPr>
              <a:t>明治天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818320" y="3605040"/>
            <a:ext cx="3146400" cy="3076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6200" y="3738600"/>
            <a:ext cx="502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慈禧太后说：“光绪１８７５年登极时年幼，我不得不垂帘听政，到１８８６年改为“训政”，１８８９年“归政” 。我什么都不过问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黑体"/>
                <a:ea typeface="黑体"/>
              </a:rPr>
              <a:t>修修花园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养老还不行么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慈禧与明治天皇相比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对照何其鲜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8360" y="35712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08:52:04Z</dcterms:created>
  <dc:creator>www.dearedu.com</dc:creator>
  <dc:description>www.dearedu.com</dc:description>
  <cp:keywords>www.dearedu.com</cp:keywords>
  <dc:language>en-US</dc:language>
  <cp:lastModifiedBy>微软用户</cp:lastModifiedBy>
  <dcterms:modified xsi:type="dcterms:W3CDTF">2011-12-25T07:55:30Z</dcterms:modified>
  <cp:revision>0</cp:revision>
  <dc:subject>www.dearedu.com</dc:subject>
  <dc:title>www.dearedu.com</dc:title>
</cp:coreProperties>
</file>